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A5F-34E4-4DAD-AEFF-A39CAE2F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B8F-4AB0-40D8-9003-0E99D4D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F1B-470D-4484-9EB8-C8B0CB4A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B3C-59FA-437B-9EFF-ABE36CC1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4D0-AA7D-4CA9-B959-56BD43E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BFB-9238-4E2E-B2C3-14086CFB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3D7-3439-41BF-9960-6F190AC7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264-8DE2-4BEA-8EE7-6351BBFE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AA2-B22B-4AA2-9259-6392DDFE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59B-DF9E-41B0-BD2B-5C2ACD28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F6B-2A19-415A-B14C-C7601864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6D9-7DCE-4EFA-A6A5-2C03C2F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D768F-3F73-4261-8CE9-1030B9BC01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80600"/>
            <a:ext cx="9070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ffffff"/>
                </a:solidFill>
                <a:latin typeface="Tempus Sans ITC"/>
              </a:rPr>
              <a:t>LA PLACA BAS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000" y="3239640"/>
            <a:ext cx="9070920" cy="40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324000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717120"/>
            <a:ext cx="907092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empus Sans ITC"/>
              </a:rPr>
              <a:t>¿Qué e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9640" y="3510000"/>
            <a:ext cx="882036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lvl="1" marL="431640" indent="-215640" algn="just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  <a:ea typeface="Arial Unicode MS"/>
              </a:rPr>
              <a:t>Placa de plástico con un circuito grabado en          su superficie                 circuito imp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0360" y="414036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5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360360"/>
            <a:ext cx="9070920" cy="63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079640"/>
            <a:ext cx="2160720" cy="539640"/>
          </a:xfrm>
          <a:prstGeom prst="rightArrow">
            <a:avLst>
              <a:gd name="adj1" fmla="val 50000"/>
              <a:gd name="adj2" fmla="val 1001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croproce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51280" y="942840"/>
            <a:ext cx="2627280" cy="193680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  <p:sp>
        <p:nvSpPr>
          <p:cNvPr id="50" name=""/>
          <p:cNvSpPr/>
          <p:nvPr/>
        </p:nvSpPr>
        <p:spPr>
          <a:xfrm>
            <a:off x="900000" y="3060720"/>
            <a:ext cx="2160720" cy="539640"/>
          </a:xfrm>
          <a:prstGeom prst="rightArrow">
            <a:avLst>
              <a:gd name="adj1" fmla="val 50000"/>
              <a:gd name="adj2" fmla="val 1001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morias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00720" y="2519280"/>
            <a:ext cx="3419280" cy="249732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  <p:sp>
        <p:nvSpPr>
          <p:cNvPr id="52" name=""/>
          <p:cNvSpPr/>
          <p:nvPr/>
        </p:nvSpPr>
        <p:spPr>
          <a:xfrm>
            <a:off x="900000" y="4859280"/>
            <a:ext cx="2160720" cy="539640"/>
          </a:xfrm>
          <a:prstGeom prst="rightArrow">
            <a:avLst>
              <a:gd name="adj1" fmla="val 50000"/>
              <a:gd name="adj2" fmla="val 1001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c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71800" y="3378240"/>
            <a:ext cx="4408560" cy="328140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717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empus Sans ITC"/>
              </a:rPr>
              <a:t>¿Dónde está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25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Se encuentra en la base del orden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3780000"/>
            <a:ext cx="4859280" cy="362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9280" y="6300720"/>
            <a:ext cx="3060720" cy="720720"/>
          </a:xfrm>
          <a:prstGeom prst="rightArrow">
            <a:avLst>
              <a:gd name="adj1" fmla="val 50000"/>
              <a:gd name="adj2" fmla="val 106169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596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empus Sans ITC"/>
              </a:rPr>
              <a:t>¿Para qué sirve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000" y="2290680"/>
            <a:ext cx="907092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Servir de soporte (memorias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                   RAM, microprocesador...)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Permitir la comunicación entre  los       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diferentes    componentes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del orden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519280"/>
            <a:ext cx="1979640" cy="540000"/>
          </a:xfrm>
          <a:prstGeom prst="rightArrow">
            <a:avLst>
              <a:gd name="adj1" fmla="val 50000"/>
              <a:gd name="adj2" fmla="val 9165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4716360"/>
            <a:ext cx="1979640" cy="540000"/>
          </a:xfrm>
          <a:prstGeom prst="rightArrow">
            <a:avLst>
              <a:gd name="adj1" fmla="val 50000"/>
              <a:gd name="adj2" fmla="val 9165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907092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empus Sans ITC"/>
              </a:rPr>
              <a:t>Component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1040" y="2340000"/>
            <a:ext cx="6529320" cy="470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21280" y="2141640"/>
            <a:ext cx="273672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02360" y="5381640"/>
            <a:ext cx="273672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2000" y="6642000"/>
            <a:ext cx="309564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742000" y="6642000"/>
            <a:ext cx="255600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1782720" y="6642000"/>
            <a:ext cx="75564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9280" y="10796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Creado p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Rosa Elena Castro Bon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4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IES Los Naranj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38:32Z</dcterms:created>
  <dc:creator/>
  <dc:description/>
  <dc:language>en-US</dc:language>
  <cp:lastModifiedBy>Usuario</cp:lastModifiedBy>
  <dcterms:modified xsi:type="dcterms:W3CDTF">2010-02-02T12:06:34Z</dcterms:modified>
  <cp:revision>7</cp:revision>
  <dc:subject/>
  <dc:title>LA PLACA BASE</dc:title>
</cp:coreProperties>
</file>